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C07-3CBE-40A3-86C5-DB13871B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F3E2-015D-429A-BD5F-21789E42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EF0-F429-408E-8A8F-615F791C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945D-2B6F-4BE1-A9F8-5DAA490B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2751C-1773-4B55-BCDB-D6431D37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16D2A-D1B0-4FAE-9357-DE9433D8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75416-4F47-4130-9B86-15D73E74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7302E-B503-4D9A-AFB9-A68FFF77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4D785-3D6D-4DE4-9D0D-30C498CA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CD288-7862-4EA1-900D-BBBF45BC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0FDCD-9A8C-477D-8B86-0E6D59A1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328-929A-457E-AE47-C5AEAC64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9BD4F-A991-45D1-9269-34F8642D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9B19A-6784-46A4-B896-5EDAFCCE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89234-6BDF-435D-85DC-CEDA6900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9C806-E28C-4DB3-930F-FD51DEE5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297F6-A8C2-4B69-9D4D-AE9F5A4A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07DD2-8094-4475-8F41-55EF743B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107F6-2D62-40E9-8383-C8A77DE4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AF330-C3D2-4E76-B1DD-CE092D28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68BD9-6B20-441E-87A7-81D1A7AF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8A254-FE87-4CDB-B737-41879FA2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26D9-7907-479E-BA17-9EAA2793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89A0B-95B3-43A8-AE7C-50E85AB4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8E1CE-0F2D-4B76-9DF4-F795ED0E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CA7D5-4666-4736-B9C8-18599327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6A881-0599-4765-BA68-E1EAD372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61BF8-7993-4F5F-9443-93A41F33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FE862-63D7-4890-9581-E1666884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CD294-E1EE-4BAF-9D48-0E5E96EF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8A1952-9209-4401-90FA-A85857D6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A000DD-67E2-428C-B63B-2FAED221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9179BA-358A-4940-A976-8B39F057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7C7F-D8A5-4895-94B8-B803B1AB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0AEFDD-E5E1-4C70-862F-2919EE17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7FBC31-0CAA-476D-B79B-C2EBC15E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098CA5-A265-4BE4-9E41-596938B1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BE4D72-E25C-453F-9A83-ECFDBEE5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7CD0A5-E1DD-4161-B8F9-50013C55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856953-9F92-4C55-8D5A-47409093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517155-8181-4234-A8D6-FCEC6EA2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EC0AB9-3163-494E-AAFD-AB4423B3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7D6C8B-99EB-44A9-B6B1-A6EED024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480-9F05-49DE-BFD5-6B05DA14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4E0D-1950-4ED6-8EF9-4D18EAA9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BC6-64E2-484D-BAB0-EF6F44C6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77A-A255-4602-95E2-60A0C64F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DB82-7DC1-4D00-92F8-E0C5EB6B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A521-6A84-47CE-83E0-2525A4BD032B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B35B-7E0B-4FA9-B81C-855E6BB30E15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7972-B11F-4427-A6A9-AF60E57A7D6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ED85-34D4-494B-A321-D1CB1D4909F9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155520" y="-533520"/>
            <a:ext cx="11145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155520" y="-533520"/>
            <a:ext cx="11145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Rectangle 8" descr=""/>
          <p:cNvPicPr/>
          <p:nvPr/>
        </p:nvPicPr>
        <p:blipFill>
          <a:blip r:embed="rId1"/>
          <a:stretch/>
        </p:blipFill>
        <p:spPr>
          <a:xfrm>
            <a:off x="1474920" y="2571840"/>
            <a:ext cx="6065640" cy="16891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9"/>
          <p:cNvSpPr/>
          <p:nvPr/>
        </p:nvSpPr>
        <p:spPr>
          <a:xfrm>
            <a:off x="990720" y="83808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adley Hand ITC"/>
              </a:rPr>
              <a:t>My Name is..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0" descr="apple.bmp"/>
          <p:cNvPicPr/>
          <p:nvPr/>
        </p:nvPicPr>
        <p:blipFill>
          <a:blip r:embed="rId2"/>
          <a:stretch/>
        </p:blipFill>
        <p:spPr>
          <a:xfrm>
            <a:off x="5867280" y="4292640"/>
            <a:ext cx="1994040" cy="2260440"/>
          </a:xfrm>
          <a:prstGeom prst="rect">
            <a:avLst/>
          </a:prstGeom>
          <a:ln w="9360">
            <a:solidFill>
              <a:srgbClr val="dd7e0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3124080" y="609480"/>
            <a:ext cx="579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ing a good listener  and a good friend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2"/>
          <p:cNvSpPr/>
          <p:nvPr/>
        </p:nvSpPr>
        <p:spPr>
          <a:xfrm>
            <a:off x="1371600" y="914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Things I do not like  are…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4952880" y="563868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goss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1828800" y="3886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67057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1066680" y="2209680"/>
            <a:ext cx="6629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rd work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od frien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ponsibl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ind pers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 good listen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1600200" y="685800"/>
            <a:ext cx="609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Jess Houck…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276720" y="55627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: Jhouck60@gmail.c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6"/>
          <p:cNvSpPr/>
          <p:nvPr/>
        </p:nvSpPr>
        <p:spPr>
          <a:xfrm>
            <a:off x="1447920" y="83808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I live in Hatboro, P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Title 1" descr=""/>
          <p:cNvPicPr/>
          <p:nvPr/>
        </p:nvPicPr>
        <p:blipFill>
          <a:blip r:embed="rId1"/>
          <a:stretch/>
        </p:blipFill>
        <p:spPr>
          <a:xfrm>
            <a:off x="-237960" y="146160"/>
            <a:ext cx="8778600" cy="1536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google.bmp"/>
          <p:cNvPicPr/>
          <p:nvPr/>
        </p:nvPicPr>
        <p:blipFill>
          <a:blip r:embed="rId2"/>
          <a:stretch/>
        </p:blipFill>
        <p:spPr>
          <a:xfrm>
            <a:off x="1905120" y="2362320"/>
            <a:ext cx="4846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 will graduated from the Hiram G. Andrews  Center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 will be an assistant  teacher in a preschool roo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  will be married and living on my own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Title 1" descr=""/>
          <p:cNvPicPr/>
          <p:nvPr/>
        </p:nvPicPr>
        <p:blipFill>
          <a:blip r:embed="rId1"/>
          <a:stretch/>
        </p:blipFill>
        <p:spPr>
          <a:xfrm>
            <a:off x="-66600" y="-201600"/>
            <a:ext cx="8759880" cy="1579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BC9_NTSS.jpg"/>
          <p:cNvPicPr/>
          <p:nvPr/>
        </p:nvPicPr>
        <p:blipFill>
          <a:blip r:embed="rId2"/>
          <a:stretch/>
        </p:blipFill>
        <p:spPr>
          <a:xfrm>
            <a:off x="4495680" y="3733920"/>
            <a:ext cx="4084920" cy="2635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imagesCATPDBZI.jpg"/>
          <p:cNvPicPr/>
          <p:nvPr/>
        </p:nvPicPr>
        <p:blipFill>
          <a:blip r:embed="rId3"/>
          <a:stretch/>
        </p:blipFill>
        <p:spPr>
          <a:xfrm>
            <a:off x="762120" y="33526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75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Title 1" descr=""/>
          <p:cNvPicPr/>
          <p:nvPr/>
        </p:nvPicPr>
        <p:blipFill>
          <a:blip r:embed="rId1"/>
          <a:stretch/>
        </p:blipFill>
        <p:spPr>
          <a:xfrm>
            <a:off x="-6480" y="146160"/>
            <a:ext cx="824256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228600" y="228600"/>
            <a:ext cx="6781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ork at the Reg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to work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to babysit k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to listen to mus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to dance around when kno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is loo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2 dogs,1 cat, and 6 fish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to hang out with my frie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elp my parents out at ho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1143000" y="838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gs I want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1676520" y="2514600"/>
            <a:ext cx="5486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job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kid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usban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ave my own hous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o to Hawaii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o travel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0" y="68580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I am good at……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1523880" y="1066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ing  my own thing and being an individu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5:00:23Z</dcterms:created>
  <dc:creator>Administrator</dc:creator>
  <dc:description/>
  <dc:language>en-US</dc:language>
  <cp:lastModifiedBy>Administrator</cp:lastModifiedBy>
  <dcterms:modified xsi:type="dcterms:W3CDTF">2010-11-01T15:36:56Z</dcterms:modified>
  <cp:revision>20</cp:revision>
  <dc:subject/>
  <dc:title>Slide 1</dc:title>
</cp:coreProperties>
</file>